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914-CE02-41AA-8717-10A725CA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D4C-FF7E-4D9B-88F8-DD832535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0CB-5C2B-42AE-A0EF-DA4A299B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5A2-AFCB-42D7-8A82-BE55C99F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D16-36BF-4F83-B42F-F3AE651A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346-E3BD-4F77-8FC6-CEA5C045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6CE-0766-44CB-950A-6947337D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E8F-3B88-4159-87A3-544ECC1B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03C-8F75-4186-BC94-3750F24C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44B-D198-435A-AA0A-0F895935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45E-916F-4A9F-B0A6-00512DC5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05E-B59B-439A-BE8A-65FBBFE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3D5D-FF12-4F42-9308-B9D75E4A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76920"/>
            <a:ext cx="615636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ا ندمان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57080" y="2700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بارح كنت لحا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تل الغصن الياب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ا عم بسأل عنَّك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هلّق صرت قبا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قلبي نورَك لاب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ركني قرِّب منَّك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عطيني حبّ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حميني بد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 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ا تحرمني منَّ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ا موجوع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صرلي سنين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غرقان بليل الكذبي عذاب دموع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وغيرَك مين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قادر يشفي يا ربّي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برد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عطيني ن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هرب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حميني بد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 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ا تحرمني منَّ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2:00:33Z</dcterms:created>
  <dc:creator>-</dc:creator>
  <dc:description/>
  <dc:language>en-US</dc:language>
  <cp:lastModifiedBy>-</cp:lastModifiedBy>
  <dcterms:modified xsi:type="dcterms:W3CDTF">2003-01-17T09:31:22Z</dcterms:modified>
  <cp:revision>5</cp:revision>
  <dc:subject/>
  <dc:title>Slide 1</dc:title>
</cp:coreProperties>
</file>